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B3A-64CE-4D49-8128-6493203E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E78-D8B0-4DFF-9B1D-4789F45F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9A1-48AD-4919-92EE-B01A7FDE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D6F-F22F-4818-B925-9C03366A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DBB-4CE4-4572-8E34-A1E45436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B8A-DB1F-44B5-AC59-94DA774B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8A1-631A-41B7-B666-8DF4692D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101-A110-414B-943F-D1CAE9A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56D-BC95-43CC-8D1C-8B9E8E8A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18A-8716-41A4-8AEC-762513F3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043-4902-4B24-9CBB-95F858E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13A-C08E-470A-999E-09B17687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F426-F720-4F25-B16D-7AACE93FEB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371600" y="0"/>
          <a:ext cx="51814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0"/>
                    <a:ext cx="518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Object 9"/>
          <p:cNvGraphicFramePr/>
          <p:nvPr/>
        </p:nvGraphicFramePr>
        <p:xfrm>
          <a:off x="6553080" y="0"/>
          <a:ext cx="25909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0"/>
                    <a:ext cx="259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Object 10"/>
          <p:cNvGraphicFramePr/>
          <p:nvPr/>
        </p:nvGraphicFramePr>
        <p:xfrm>
          <a:off x="0" y="0"/>
          <a:ext cx="137160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1371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urtle Graphic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3429000" y="6248520"/>
            <a:ext cx="2378160" cy="40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154240" cy="4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13651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4"/>
          <a:stretch/>
        </p:blipFill>
        <p:spPr>
          <a:xfrm>
            <a:off x="3962520" y="5181480"/>
            <a:ext cx="131436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5"/>
          <a:stretch/>
        </p:blipFill>
        <p:spPr>
          <a:xfrm>
            <a:off x="6934320" y="6130800"/>
            <a:ext cx="1807920" cy="72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6"/>
          <a:stretch/>
        </p:blipFill>
        <p:spPr>
          <a:xfrm>
            <a:off x="838080" y="5410080"/>
            <a:ext cx="226692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coloured sky 1"/>
          <p:cNvPicPr/>
          <p:nvPr/>
        </p:nvPicPr>
        <p:blipFill>
          <a:blip r:embed="rId7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1066680" y="5335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T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eaching </a:t>
            </a: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L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ondon </a:t>
            </a: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C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4191120" y="4114800"/>
            <a:ext cx="457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rgaret Derrington KCL Summer Holiday 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o start programming a TUR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r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urtl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mport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n  background pensize and pen col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color(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'red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nsize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gcolor(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'black'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color(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'yellow'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5410080" y="3733920"/>
            <a:ext cx="2743200" cy="761760"/>
          </a:xfrm>
          <a:prstGeom prst="wedgeRectCallout">
            <a:avLst>
              <a:gd name="adj1" fmla="val -116842"/>
              <a:gd name="adj2" fmla="val -24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B the colour names are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257800" y="1295280"/>
            <a:ext cx="3429000" cy="914400"/>
          </a:xfrm>
          <a:prstGeom prst="wedgeRectCallout">
            <a:avLst>
              <a:gd name="adj1" fmla="val -75000"/>
              <a:gd name="adj2" fmla="val 19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this at the beginning of the program; it imports all the turtl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4267080" y="4952880"/>
            <a:ext cx="4572000" cy="1371600"/>
          </a:xfrm>
          <a:prstGeom prst="wedgeRectCallout">
            <a:avLst>
              <a:gd name="adj1" fmla="val -46143"/>
              <a:gd name="adj2" fmla="val -93287"/>
            </a:avLst>
          </a:prstGeom>
          <a:solidFill>
            <a:srgbClr val="bbe0e3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NB   DO NOT CALL ANY OF YOUR PROGRAMS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‘turtle.py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If you do, that is what you will import instead of the module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3962520" cy="2552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08000" y="336600"/>
            <a:ext cx="3473280" cy="8140680"/>
          </a:xfrm>
          <a:prstGeom prst="rect">
            <a:avLst/>
          </a:prstGeom>
          <a:solidFill>
            <a:srgbClr val="ffffff"/>
          </a:solidFill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from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turtle </a:t>
            </a:r>
            <a:r>
              <a:rPr b="0" lang="en-GB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import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ncolor(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Courier New"/>
              </a:rPr>
              <a:t>'red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nsize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color(</a:t>
            </a:r>
            <a:r>
              <a:rPr b="1" lang="en-GB" sz="2400" spc="-1" strike="noStrike">
                <a:solidFill>
                  <a:srgbClr val="00cc00"/>
                </a:solidFill>
                <a:latin typeface="Courier New"/>
                <a:ea typeface="Courier New"/>
              </a:rPr>
              <a:t>'yellow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_fill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(80), left(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(80), left(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(80), left(1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nup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ward(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(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_fil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4495680" y="152280"/>
            <a:ext cx="4343400" cy="3429000"/>
          </a:xfrm>
          <a:prstGeom prst="wedgeRectCallout">
            <a:avLst>
              <a:gd name="adj1" fmla="val -82236"/>
              <a:gd name="adj2" fmla="val 1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, that’s an aste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it’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or   has American sp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lour parameters are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‘STRING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gin_fill() and end_fil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to be there before and after the shape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ilarly pen_up() and pen_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Functions </a:t>
            </a:r>
            <a:br>
              <a:rPr sz="4000"/>
            </a:b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with a tur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quare is a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ze is a 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redefine 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ing pen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fill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parameters al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 a spiral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polyg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638680" y="0"/>
            <a:ext cx="3276720" cy="667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urtle impor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olor('re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size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gcolor('blac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color('yellow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Square (siz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(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(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(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(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(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(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(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(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(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count&lt;=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(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(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= count 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7620120" y="3048120"/>
            <a:ext cx="1371600" cy="1143000"/>
          </a:xfrm>
          <a:prstGeom prst="wedgeRectCallout">
            <a:avLst>
              <a:gd name="adj1" fmla="val -90046"/>
              <a:gd name="adj2" fmla="val 85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s squares of particular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7772400" y="4495680"/>
            <a:ext cx="1371600" cy="1143000"/>
          </a:xfrm>
          <a:prstGeom prst="wedgeRectCallout">
            <a:avLst>
              <a:gd name="adj1" fmla="val -73379"/>
              <a:gd name="adj2" fmla="val 64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s a spiral of squ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USES OF TURTLE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t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be they have done it bef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able way of introducing functions, as they are obviously useful in tidying up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pils can readily see how functions/ subroutines etc work in a program from simple examples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HANG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sterday you started to program the hangman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you draw a hangman in Python Turtle graphics to use phic in your g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that every time another wrong letter is guessed, an additional bit of the hangman image i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eventually the whole image appears when the game is lo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HEET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design a ‘Cheetsheet’ for Turtle graphics in Pyth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ort of Turtle challenges do you think would interest your student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nd help them to learn about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random.randrange() to illustrate Brownian motion, or draw realistic tr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e mathematical sh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8" descr=""/>
          <p:cNvPicPr/>
          <p:nvPr/>
        </p:nvPicPr>
        <p:blipFill>
          <a:blip r:embed="rId1"/>
          <a:stretch/>
        </p:blipFill>
        <p:spPr>
          <a:xfrm rot="1118400">
            <a:off x="6009840" y="809280"/>
            <a:ext cx="2516400" cy="225900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 rot="18967200">
            <a:off x="555480" y="688680"/>
            <a:ext cx="3124440" cy="257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 rot="20224800">
            <a:off x="534600" y="3452400"/>
            <a:ext cx="2890800" cy="2495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 rot="414000">
            <a:off x="3209400" y="2651040"/>
            <a:ext cx="2965680" cy="2737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5"/>
          <a:stretch/>
        </p:blipFill>
        <p:spPr>
          <a:xfrm rot="2575800">
            <a:off x="6109920" y="3892680"/>
            <a:ext cx="23144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3T15:14:08Z</dcterms:created>
  <dc:creator>Margaret deJ Derrington</dc:creator>
  <dc:description/>
  <dc:language>en-US</dc:language>
  <cp:lastModifiedBy>Margaret</cp:lastModifiedBy>
  <dcterms:modified xsi:type="dcterms:W3CDTF">2015-04-08T22:07:05Z</dcterms:modified>
  <cp:revision>10</cp:revision>
  <dc:subject/>
  <dc:title>Slide 1</dc:title>
</cp:coreProperties>
</file>